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B51-5D46-42A3-A0A7-D4400551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CCB-DE1E-42F7-B4B4-71DEC88B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CC0-DD74-4EB8-9D5B-586FE351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E1D-8AEA-42D2-98C2-21E7AE2B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770-C559-427C-95DC-C8DF0F0E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29C-6BDD-4AEF-842F-3E466C5D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D24-C4B4-4940-8CED-195E07D8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052-02F4-41AA-8FDA-EF13B244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CE3-0C5A-4F85-BCAA-2CD1ABE4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E1D-730B-4A10-9115-BB7EE9D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3FA-809F-4395-9897-76E3B7A9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C0F-7A20-4638-813A-59168DB0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C6BF-7C27-4BE0-A5B6-4569A6EB9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52480" y="68544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8 TC 10m Wind Forecast Errors (Curves) &amp; Biases (Colum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hart 4" descr=""/>
          <p:cNvPicPr/>
          <p:nvPr/>
        </p:nvPicPr>
        <p:blipFill>
          <a:blip r:embed="rId1"/>
          <a:stretch/>
        </p:blipFill>
        <p:spPr>
          <a:xfrm>
            <a:off x="907920" y="1060560"/>
            <a:ext cx="7328160" cy="4584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5029200" y="5181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(HWRFx Using GFDL-IC)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990720" y="1219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t)</a:t>
            </a: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3276720" y="586728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orecast Hour (Number of Cases)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1295280" y="563868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(62)        24(57)        36(52)        48(46)        60(43)        72(37)        84(33)        96(30)       108(27)     120(24) </a:t>
            </a: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art 1" descr=""/>
          <p:cNvPicPr/>
          <p:nvPr/>
        </p:nvPicPr>
        <p:blipFill>
          <a:blip r:embed="rId1"/>
          <a:stretch/>
        </p:blipFill>
        <p:spPr>
          <a:xfrm>
            <a:off x="907920" y="1047600"/>
            <a:ext cx="7328160" cy="4762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5029200" y="25146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(HWRFx Using HWRF-IC)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kevin.yeh\My Documents\2009 Stats\Bill2009081600_HWRFx_3km_wind_swath.gif"/>
          <p:cNvPicPr/>
          <p:nvPr/>
        </p:nvPicPr>
        <p:blipFill>
          <a:blip r:embed="rId1"/>
          <a:stretch/>
        </p:blipFill>
        <p:spPr>
          <a:xfrm>
            <a:off x="457200" y="2971800"/>
            <a:ext cx="4087800" cy="367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kevin.yeh\My Documents\2009 Tests\Bill_2009081600z_HxGFD_d02_3km_wind_swath.gif"/>
          <p:cNvPicPr/>
          <p:nvPr/>
        </p:nvPicPr>
        <p:blipFill>
          <a:blip r:embed="rId2"/>
          <a:stretch/>
        </p:blipFill>
        <p:spPr>
          <a:xfrm>
            <a:off x="4572000" y="2971800"/>
            <a:ext cx="444492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Chart 5" descr=""/>
          <p:cNvPicPr/>
          <p:nvPr/>
        </p:nvPicPr>
        <p:blipFill>
          <a:blip r:embed="rId3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981080" y="3124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(HWRFx Using HWRF-IC)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248520" y="31240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Times New Roman"/>
              </a:rPr>
              <a:t>(HWRFx Using GFDL-IC)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kevin.yeh\My Documents\2009 Stats\Bill2009081800_HWRFx_3km_wind_swath.gif"/>
          <p:cNvPicPr/>
          <p:nvPr/>
        </p:nvPicPr>
        <p:blipFill>
          <a:blip r:embed="rId1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kevin.yeh\My Documents\2009 Tests\Bill_2009081800z_HxGFD_d02_3km_wind_swath.gif"/>
          <p:cNvPicPr/>
          <p:nvPr/>
        </p:nvPicPr>
        <p:blipFill>
          <a:blip r:embed="rId2"/>
          <a:stretch/>
        </p:blipFill>
        <p:spPr>
          <a:xfrm>
            <a:off x="4572000" y="2971800"/>
            <a:ext cx="4410000" cy="3629160"/>
          </a:xfrm>
          <a:prstGeom prst="rect">
            <a:avLst/>
          </a:prstGeom>
          <a:ln w="0">
            <a:noFill/>
          </a:ln>
        </p:spPr>
      </p:pic>
      <p:pic>
        <p:nvPicPr>
          <p:cNvPr id="56" name="Chart 5" descr=""/>
          <p:cNvPicPr/>
          <p:nvPr/>
        </p:nvPicPr>
        <p:blipFill>
          <a:blip r:embed="rId3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2057400" y="3124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(HWRFx Using HWRF-IC)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248520" y="31240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Times New Roman"/>
              </a:rPr>
              <a:t>(HWRFx Using GFDL-IC)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kevin.yeh\My Documents\2009 Stats\Erika2009090312_HWRFx_3km_wind_swath.gif"/>
          <p:cNvPicPr/>
          <p:nvPr/>
        </p:nvPicPr>
        <p:blipFill>
          <a:blip r:embed="rId1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kevin.yeh\My Documents\2009 Tests\Erika_2009090312z_HxGFD_d02_3km_wind_swath.gif"/>
          <p:cNvPicPr/>
          <p:nvPr/>
        </p:nvPicPr>
        <p:blipFill>
          <a:blip r:embed="rId2"/>
          <a:stretch/>
        </p:blipFill>
        <p:spPr>
          <a:xfrm>
            <a:off x="4572000" y="2971800"/>
            <a:ext cx="4419720" cy="3637080"/>
          </a:xfrm>
          <a:prstGeom prst="rect">
            <a:avLst/>
          </a:prstGeom>
          <a:ln w="0">
            <a:noFill/>
          </a:ln>
        </p:spPr>
      </p:pic>
      <p:pic>
        <p:nvPicPr>
          <p:cNvPr id="61" name="Chart 5" descr=""/>
          <p:cNvPicPr/>
          <p:nvPr/>
        </p:nvPicPr>
        <p:blipFill>
          <a:blip r:embed="rId3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2057400" y="3124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(HWRFx Using HWRF-IC)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6248520" y="31240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Times New Roman"/>
              </a:rPr>
              <a:t>(HWRFx Using GFDL-IC)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10-01-21T04:54:56Z</dcterms:modified>
  <cp:revision>497</cp:revision>
  <dc:subject/>
  <dc:title>HIGH RESOLUTION fvGCM  RESULTS</dc:title>
</cp:coreProperties>
</file>